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8E23-8164-41B1-B6B6-A2A37FE28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s in red for new since May 2006.  Be sure to demo all of the things in RED when you login later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396-5105-4176-BE56-BE4BF902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205-E2DA-4A00-9CA3-B1ADBC2C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0AC-FB7B-49BD-A4CE-20277691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C42-2B1A-4E43-8606-90D54AF6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577-860E-4787-9524-7A01EE01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4BA-B3D7-4CCF-8150-A1EBCD39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33C-57B2-4DBE-BCBD-26134360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BDC-5CBB-498E-A254-A47B9BD7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FD5-817C-43FD-B155-8CABA981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03B-F586-47BE-B339-50D9DE23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394-221A-4C22-8601-886221D5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669-0F90-452B-8828-7E000076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A05E-CB23-4953-82D8-FFF202C1B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deal.azed.gov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 for Creating an IDEAL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9718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 to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ideal.az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link on the bottom right-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ctivat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click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Sign 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llow the directions on the screen that appears after you click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ign 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 and complete the information required once you choose standard or guest ac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are unable to create an account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ease contact the IDEAL help desk at 480- 965-941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 They will be happy to help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248520" y="4572000"/>
            <a:ext cx="2743200" cy="1905120"/>
          </a:xfrm>
          <a:prstGeom prst="ellipse">
            <a:avLst/>
          </a:prstGeom>
          <a:noFill/>
          <a:ln w="57240">
            <a:solidFill>
              <a:srgbClr val="d6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57400" y="3048120"/>
            <a:ext cx="1600200" cy="914400"/>
          </a:xfrm>
          <a:prstGeom prst="ellipse">
            <a:avLst/>
          </a:prstGeom>
          <a:noFill/>
          <a:ln w="57240">
            <a:solidFill>
              <a:srgbClr val="d6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21:32:19Z</dcterms:created>
  <dc:creator>lumma000</dc:creator>
  <dc:description/>
  <dc:language>en-US</dc:language>
  <cp:lastModifiedBy>lumma000</cp:lastModifiedBy>
  <dcterms:modified xsi:type="dcterms:W3CDTF">2008-04-24T20:45:30Z</dcterms:modified>
  <cp:revision>4</cp:revision>
  <dc:subject/>
  <dc:title>Directions for Creating an IDEAL Account</dc:title>
</cp:coreProperties>
</file>